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FA216-08CF-4677-8AAA-206FD63AF6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329D9-A446-432A-8292-2FD84FC60F5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39C9-1ECF-4457-A88F-0B0210D72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C681-DB0F-40A6-BE13-6EEA04AAC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8A51-E47E-4290-B505-5EBBEA9B0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372E-5C1C-42F4-92E3-F2FBC53BE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8991B-8123-42D5-9979-CAFD466D2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610AE-F1AA-4BDE-B4A5-2DF9B3A0A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59A16-A3BD-4708-878A-6060747E8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02BA3-8A70-46A9-AFA8-B5E1585EA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413DD-7F10-4F4D-81FC-E4C40B7D4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F7D2C-42AF-4D7E-AE62-07522653B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AAA22-7DED-4A35-AB97-E90F4D9A4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423A-FD98-4C4F-83A7-4B044DF1C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3EE9F-422E-4871-8D9B-F23C2FCD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916B3-51C1-40AE-BB15-384B22D5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49B58-0677-4C89-AAC4-7B500363B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69594-F754-49D1-B056-4E7F2EC21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D2022-4B91-4562-839A-B834D664D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6C4A3-543F-413E-AEEA-2D8498904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9552E-3466-4566-B6AD-457481B5D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E79A0-FC71-4D64-9420-6A4E7C0EE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040AC-F4FB-4509-B5D3-9C507E2D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5C944-D9F3-4F1A-86A9-59828F606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194E-49CB-45ED-8117-099981EA2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CB160-B33A-478C-BC26-962DA3650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E0F40-E690-4224-80EB-232266BB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4C6B2-8F65-47BE-A589-36CCF2DD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B0876-100F-4916-8518-4622E604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46FB3-02B7-435A-B1DB-3E9D63C35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6B402-1728-455A-95E6-04C6F4E31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9C467-D62E-4397-B9CD-B9F576F98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F9200-1111-4D23-9A51-2F4C2F186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D0103-9EE5-4433-A1AE-EF7680347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BF21A-BCFB-4A51-8AC4-08C88A1FE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5122-BFDE-4E98-99A7-BD913A838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BE469-D58A-46A8-85C3-9A0683BAC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9F2A1-F518-4ADC-BBA9-A71C66B68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64FA1-6DE9-4C18-8D43-B7BE079C2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AEB89-541F-4F11-AA5F-2DFEEBA3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859F6-3074-4ADD-8C2E-E24086BA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41A7C-671D-41FA-8A66-CFCB2F23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FD316-1BFE-476F-BB66-6CDCEF870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B7307-7A2F-4349-839F-D892743F3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DF472-E3CC-4762-A1BC-193E7C240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3910F-2010-4C19-91C8-D77729976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DCD1-E915-4FC4-ABCB-627A823AB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F7990-ECFD-4EC4-9C0D-4813A5093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3A172-1E6D-40D0-BDF5-F9640CFE6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93670-EEE2-4969-92BF-A53B801F4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B6ED4-6FC1-4D03-B027-31F082B4E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36C9D-D9EB-4A8E-AA5D-82307D041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CDEF4-ECB9-4AF9-BCAA-4D1DE5CB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3A868-4F69-4EB3-B030-A1D90627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E2A21-E576-43DA-AF0E-8239D9D3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A8DC3-88A3-47D7-8F55-9F230C7CC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C9C9B-B41C-47CA-9891-8106D3C2C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B86F-90C0-491F-B058-B752BC3EC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AD840-F75C-4070-88EA-20B9ED9EE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4B581-D15C-4536-9E52-DFECEE4BF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2C8C2-A20C-4A14-A8F5-C2A9BBBED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42046-13C7-4346-AC5E-7B086F769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7A2EE2-F664-4EE2-886D-6CA8E317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83026-D627-4AFC-B6CC-A7CAA1A99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A2B081-894E-4E01-86E3-683C64E50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BF783-F42A-4F45-8262-C79B2ED2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490CE8-F700-4F83-8F8D-0B1DAE40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445F5-EF6B-4F94-BE91-4B5EC315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4DF8-8A22-4D46-A07C-DC2F2D8B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A37956-C48F-4152-A80E-C266E85D7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678917-3537-418C-A4B8-255FB1E58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13CDC-A0DD-4AFC-938F-BAE0125C9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1D364-F79C-4BEC-B509-1E95B8073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AAA85-0D06-4B18-8302-96E3FC0CC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C125B2-5704-4FF3-8138-FE6BA1CF6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90794-4519-4864-B04A-55F254671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929AC3-27A1-4398-B8F5-90936A2D4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18709-A986-41F9-B892-CDBF2A056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96EEB-7E8B-4421-8D86-820200DF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13B3-A763-4D2A-A90D-EB9CFEED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5B6DBF-31B1-4F2B-973E-402C1CB8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3484E0-2059-4B76-AB1D-A49A5356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F74C5B-46CB-44A1-ACB0-211565A1E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8A2A3-0059-4103-AF4F-62938207A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A7C2D8-D4BB-4D4B-9A5D-567658192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592C-33F9-45F9-BF60-A4E02737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7B1B2-FF33-446A-8181-18EA223B83E3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61751-7927-4D48-8096-E4694F0CEEFF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3B1B9-011A-4775-9F68-CE178E3BF3B4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03C5D-9250-4184-9208-365E3EDA08FF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A5E26-BA53-40BD-B7A3-4B6E050DA313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890DA-9D13-4C6A-9288-A53D9B080CDD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520" y="1217520"/>
            <a:ext cx="128520" cy="131400"/>
            <a:chOff x="8516520" y="1217520"/>
            <a:chExt cx="12852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3760" y="121752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520" y="1282680"/>
              <a:ext cx="100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3760" y="128232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26760" y="137016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520" y="1435320"/>
              <a:ext cx="10116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6760" y="143496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400" y="1473120"/>
            <a:ext cx="128520" cy="131400"/>
            <a:chOff x="8321400" y="1473120"/>
            <a:chExt cx="12852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78640" y="147312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400" y="1538280"/>
              <a:ext cx="100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8640" y="153792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87C41-54BB-42CF-89FA-5DE140525653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1.cvsd.k12.pa.us/course/view.php?id=302" TargetMode="External"/><Relationship Id="rId2" Type="http://schemas.openxmlformats.org/officeDocument/2006/relationships/hyperlink" Target="http://podcasts.cvsd.k12.pa.us/weblog/tom_owsinski/" TargetMode="External"/><Relationship Id="rId3" Type="http://schemas.openxmlformats.org/officeDocument/2006/relationships/hyperlink" Target="https://spreadsheets.google.com/ccc?key=0AszEkmQ4sBKFdFhrbjF2a1UzTXpNZXFpdWt2WTRGNHc&amp;hl=en" TargetMode="External"/><Relationship Id="rId4" Type="http://schemas.openxmlformats.org/officeDocument/2006/relationships/hyperlink" Target="http://www.smartmusic.com/" TargetMode="External"/><Relationship Id="rId5" Type="http://schemas.openxmlformats.org/officeDocument/2006/relationships/hyperlink" Target="file:///../../All%20Users/Desktop/iTunes.lnk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oundzabound.com/" TargetMode="External"/><Relationship Id="rId2" Type="http://schemas.openxmlformats.org/officeDocument/2006/relationships/hyperlink" Target="http://www.partnersinrhyme.com/" TargetMode="External"/><Relationship Id="rId3" Type="http://schemas.openxmlformats.org/officeDocument/2006/relationships/hyperlink" Target="http://www.royaltyfreemusic.com/free.html" TargetMode="External"/><Relationship Id="rId4" Type="http://schemas.openxmlformats.org/officeDocument/2006/relationships/hyperlink" Target="http://freeplaymusic.com/" TargetMode="External"/><Relationship Id="rId5" Type="http://schemas.openxmlformats.org/officeDocument/2006/relationships/hyperlink" Target="http://www.harryfox.com/index.jsp" TargetMode="Externa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belkin.com/IWCatProductPage.process?Product_Id=277661" TargetMode="External"/><Relationship Id="rId2" Type="http://schemas.openxmlformats.org/officeDocument/2006/relationships/hyperlink" Target="http://www.belkin.com/IWCatProductPage.process?Product_Id=277661" TargetMode="External"/><Relationship Id="rId3" Type="http://schemas.openxmlformats.org/officeDocument/2006/relationships/hyperlink" Target="http://www.roland.com/products/en/R-09HR/index.html" TargetMode="External"/><Relationship Id="rId4" Type="http://schemas.openxmlformats.org/officeDocument/2006/relationships/hyperlink" Target="http://www.bluemic.com/consumeraudio/microphones.html" TargetMode="External"/><Relationship Id="rId5" Type="http://schemas.openxmlformats.org/officeDocument/2006/relationships/hyperlink" Target="http://www.zoom.co.jp/english/products/h2/" TargetMode="External"/><Relationship Id="rId6" Type="http://schemas.openxmlformats.org/officeDocument/2006/relationships/hyperlink" Target="http://www.zoom.co.jp/english/products/h2/" TargetMode="Externa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audacity.sourceforge.net/" TargetMode="External"/><Relationship Id="rId2" Type="http://schemas.openxmlformats.org/officeDocument/2006/relationships/hyperlink" Target="http://audacity.sourceforge.net/help/faq?s=install&amp;item=lame-mp3" TargetMode="External"/><Relationship Id="rId3" Type="http://schemas.openxmlformats.org/officeDocument/2006/relationships/hyperlink" Target="http://www.digidesign.com/index.cfm?navid=507&amp;langid=1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podcastalley.com/index.php" TargetMode="External"/><Relationship Id="rId2" Type="http://schemas.openxmlformats.org/officeDocument/2006/relationships/hyperlink" Target="http://epnweb.org/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186760" cy="20905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Tom Owsinski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Conestoga Valley Middle Schoo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martmusic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	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ractical Considerations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Uses in the Middle School Band Roo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Uses in the Elementary School Band Roo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Useful Websit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Msbandirector.co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Jamstudio.co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assicalmusiccity.co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VicFirth.co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Good-Ear.co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 Woodwind Fingering Guid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Metronome Onlin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Questions and Answer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om Owsinski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onestoga Valley Middle Schoo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om_owsinski@cvsd.k12.pa.u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397-1294 x1619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Background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	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bout the CVMS band program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Why do I use technology in the band room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Enhance student learning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Get them where they liv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Efficiency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Motivation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Tech Tools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	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eb8803"/>
                </a:solidFill>
                <a:uFillTx/>
                <a:latin typeface="Corbel"/>
                <a:hlinkClick r:id="rId1"/>
              </a:rPr>
              <a:t>Moodl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eb8803"/>
                </a:solidFill>
                <a:uFillTx/>
                <a:latin typeface="Corbel"/>
                <a:hlinkClick r:id="rId2"/>
              </a:rPr>
              <a:t>Podcastin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eb8803"/>
                </a:solidFill>
                <a:uFillTx/>
                <a:latin typeface="Corbel"/>
                <a:hlinkClick r:id="rId3"/>
              </a:rPr>
              <a:t>Google Doc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eb8803"/>
                </a:solidFill>
                <a:uFillTx/>
                <a:latin typeface="Corbel"/>
                <a:hlinkClick r:id="rId4"/>
              </a:rPr>
              <a:t>Smartmusic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eb8803"/>
                </a:solidFill>
                <a:uFillTx/>
                <a:latin typeface="Corbel"/>
                <a:hlinkClick r:id="rId5"/>
              </a:rPr>
              <a:t>Ipod/Itun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martphone App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Podcasting Consideration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914400" y="1784160"/>
            <a:ext cx="77724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What is a Podcast?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Purpose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eacher or Student designed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Length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Interes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opyrigh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b8803"/>
                </a:solidFill>
                <a:uFillTx/>
                <a:latin typeface="Corbel"/>
                <a:hlinkClick r:id="rId1"/>
              </a:rPr>
              <a:t>Soundzabound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b8803"/>
                </a:solidFill>
                <a:uFillTx/>
                <a:latin typeface="Corbel"/>
                <a:hlinkClick r:id="rId2"/>
              </a:rPr>
              <a:t>Partners in Rhym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b8803"/>
                </a:solidFill>
                <a:uFillTx/>
                <a:latin typeface="Corbel"/>
                <a:hlinkClick r:id="rId3"/>
              </a:rPr>
              <a:t>Royalty Free Music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b8803"/>
                </a:solidFill>
                <a:uFillTx/>
                <a:latin typeface="Corbel"/>
                <a:hlinkClick r:id="rId4"/>
              </a:rPr>
              <a:t>Freeplaymusic.com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b8803"/>
                </a:solidFill>
                <a:uFillTx/>
                <a:latin typeface="Corbel"/>
                <a:hlinkClick r:id="rId5"/>
              </a:rPr>
              <a:t>HarryFox.com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– mechanical right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3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reating A Podcast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	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Have a pla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Use a scrip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di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Uploa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6ecff"/>
                </a:solidFill>
                <a:latin typeface="Consolas"/>
              </a:rPr>
              <a:t>Podcasting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Recordin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eb8803"/>
                </a:solidFill>
                <a:uFillTx/>
                <a:latin typeface="Corbel"/>
                <a:hlinkClick r:id="rId1"/>
              </a:rPr>
              <a:t>Ipod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with </a:t>
            </a:r>
            <a:r>
              <a:rPr b="0" lang="en-US" sz="2600" spc="-1" strike="noStrike" u="sng">
                <a:solidFill>
                  <a:srgbClr val="eb8803"/>
                </a:solidFill>
                <a:uFillTx/>
                <a:latin typeface="Corbel"/>
                <a:hlinkClick r:id="rId2"/>
              </a:rPr>
              <a:t>Microphon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martphon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eb8803"/>
                </a:solidFill>
                <a:uFillTx/>
                <a:latin typeface="Corbel"/>
                <a:hlinkClick r:id="rId3"/>
              </a:rPr>
              <a:t>Edirol R-09HR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eb8803"/>
                </a:solidFill>
                <a:uFillTx/>
                <a:latin typeface="Corbel"/>
                <a:hlinkClick r:id="rId4"/>
              </a:rPr>
              <a:t>Blue USB microphon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eb8803"/>
                </a:solidFill>
                <a:uFillTx/>
                <a:latin typeface="Corbel"/>
                <a:hlinkClick r:id="rId5"/>
              </a:rPr>
              <a:t>Zoom  H2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eb8803"/>
                </a:solidFill>
                <a:uFillTx/>
                <a:latin typeface="Corbel"/>
                <a:hlinkClick r:id="rId6"/>
              </a:rPr>
              <a:t>_x000b_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Podcasting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ditin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eb8803"/>
                </a:solidFill>
                <a:uFillTx/>
                <a:latin typeface="Corbel"/>
                <a:hlinkClick r:id="rId1"/>
              </a:rPr>
              <a:t>Audacity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with </a:t>
            </a:r>
            <a:r>
              <a:rPr b="0" lang="en-US" sz="2600" spc="-1" strike="noStrike" u="sng">
                <a:solidFill>
                  <a:srgbClr val="eb8803"/>
                </a:solidFill>
                <a:uFillTx/>
                <a:latin typeface="Corbel"/>
                <a:hlinkClick r:id="rId2"/>
              </a:rPr>
              <a:t>Lam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Garageband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eb8803"/>
                </a:solidFill>
                <a:uFillTx/>
                <a:latin typeface="Corbel"/>
                <a:hlinkClick r:id="rId3"/>
              </a:rPr>
              <a:t>Pro Tool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Podcasts as a Resource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tun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eb8803"/>
                </a:solidFill>
                <a:uFillTx/>
                <a:latin typeface="Corbel"/>
                <a:hlinkClick r:id="rId1"/>
              </a:rPr>
              <a:t>Podcast Alle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eb8803"/>
                </a:solidFill>
                <a:uFillTx/>
                <a:latin typeface="Corbel"/>
                <a:hlinkClick r:id="rId2"/>
              </a:rPr>
              <a:t>Educational Podcast Network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martmusic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	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 practice tool (Band, Orchestra, Chorus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24680" indent="-28008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Method Book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24680" indent="-28008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olo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24680" indent="-28008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Exercise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24680" indent="-28008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Band, orchestra and chorus arrangement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24680" indent="-28008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Custom file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24680" indent="-280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 sound edito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n interactive gradebook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02:14:49Z</dcterms:created>
  <dc:creator>tom_owsinski</dc:creator>
  <dc:description/>
  <dc:language>en-US</dc:language>
  <cp:lastModifiedBy>tom_owsinski</cp:lastModifiedBy>
  <dcterms:modified xsi:type="dcterms:W3CDTF">2009-11-17T15:24:28Z</dcterms:modified>
  <cp:revision>47</cp:revision>
  <dc:subject/>
  <dc:title>Technology from the Middle School Band Room</dc:title>
</cp:coreProperties>
</file>